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F8C0-B4AD-4B34-AA69-C7EEC602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C84-2E82-4DA4-A49A-A3019F3D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94D-BE10-4F3D-A4B4-7653C677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6E1-CD4F-44B4-B5CE-350F581A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BEFE-0B3F-4784-930F-733DB1FC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07EB-2F8A-4177-B87F-5E7C57A9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A5E-B341-44E6-A32E-5A83B8EA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27D0-00AA-46AE-B41B-37D276C3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8000"/>
            <a:ext cx="822960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04C-6C0F-4115-84B1-A5C57C15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FAD-B5CA-4777-97F2-8492E124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3AD-EE4C-442C-9562-8E6F4FDE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BC0-F430-4121-8E47-AE096928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332E-7380-4D71-998E-55E21F703E7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89440" cy="568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909600"/>
            <a:ext cx="5702400" cy="294804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рганизация защищенного ЭДО с помощью ПАК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IVAC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ля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СКЗИ ШИПКА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5673600" y="0"/>
            <a:ext cx="3470400" cy="391176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РЕЛ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лл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Б СА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www.accord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91360" y="53434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Ялта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7840" y="1486080"/>
            <a:ext cx="8623440" cy="5206680"/>
          </a:xfrm>
          <a:prstGeom prst="rect">
            <a:avLst/>
          </a:prstGeom>
          <a:solidFill>
            <a:srgbClr val="fff7d1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3080" y="4392720"/>
            <a:ext cx="8369280" cy="209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Модуль управления ключ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IVACY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: взаимодействие компонентов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441360" y="2050920"/>
            <a:ext cx="1797120" cy="1312920"/>
          </a:xfrm>
          <a:prstGeom prst="flowChartAlternate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C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8600" y="2176560"/>
            <a:ext cx="1943280" cy="11793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ирту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и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64240" y="2092320"/>
            <a:ext cx="1793880" cy="1274760"/>
          </a:xfrm>
          <a:prstGeom prst="flowChartAlternate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ай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5400" y="2075040"/>
            <a:ext cx="2151000" cy="12412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лектро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ч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00" y="4603680"/>
            <a:ext cx="3282840" cy="142740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лючевые п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02080" y="4578480"/>
            <a:ext cx="3283200" cy="147780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имметричные клю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610480" y="6138720"/>
            <a:ext cx="533520" cy="719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1168560" y="3416040"/>
            <a:ext cx="0" cy="116820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844720" y="3416040"/>
            <a:ext cx="0" cy="116820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238560" y="3390840"/>
            <a:ext cx="1765080" cy="116856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854680" y="3429000"/>
            <a:ext cx="0" cy="113040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569000" y="3416040"/>
            <a:ext cx="12600" cy="114300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4400" y="15048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89440" cy="5689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909600"/>
            <a:ext cx="5702400" cy="294804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рганизация защищенного ЭДО с помощью ПАК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IVAC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ля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СКЗИ ШИПКА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5673600" y="0"/>
            <a:ext cx="3470400" cy="391176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РЕЛ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лл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Б СА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a@shipk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91360" y="53434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Ялта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Основны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подход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в мире к организаци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641520" y="2517840"/>
            <a:ext cx="808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ространства открытых ключей – </a:t>
            </a:r>
            <a:r>
              <a:rPr b="1" lang="en-US" sz="4000" spc="-1" strike="noStrike">
                <a:solidFill>
                  <a:srgbClr val="cc3300"/>
                </a:solidFill>
                <a:latin typeface="Verdana"/>
              </a:rPr>
              <a:t>P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86240" y="5037120"/>
            <a:ext cx="372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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cc3300"/>
                </a:solidFill>
                <a:latin typeface="Verdana"/>
              </a:rPr>
              <a:t>«горизонтальный»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- сеть довер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5720" y="5037120"/>
            <a:ext cx="349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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cc3300"/>
                </a:solidFill>
                <a:latin typeface="Verdana"/>
              </a:rPr>
              <a:t>«вертикальный»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- система Удостоверяющих Цент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504280" y="5975280"/>
            <a:ext cx="639720" cy="8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Verdana"/>
              </a:rPr>
              <a:t>Основной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Verdana"/>
              </a:rPr>
              <a:t>подход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в России к организации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KI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641520" y="2517840"/>
            <a:ext cx="808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Система Удостоверяющих Центров – </a:t>
            </a:r>
            <a:r>
              <a:rPr b="1" lang="en-US" sz="4000" spc="-1" strike="noStrike">
                <a:solidFill>
                  <a:srgbClr val="cc3300"/>
                </a:solidFill>
                <a:latin typeface="Verdana"/>
              </a:rPr>
              <a:t>У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57840" y="5037120"/>
            <a:ext cx="372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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cc3300"/>
                </a:solidFill>
                <a:latin typeface="Verdana"/>
              </a:rPr>
              <a:t>работает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с цифровыми сертификатами в формате Х.5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0200" y="5037120"/>
            <a:ext cx="349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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cc3300"/>
                </a:solidFill>
                <a:latin typeface="Verdana"/>
              </a:rPr>
              <a:t>имеет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иерархическую структур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504280" y="5975280"/>
            <a:ext cx="639720" cy="8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Verdana"/>
              </a:rPr>
              <a:t>Второй подход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к организации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KI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реализован 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963360" y="2517840"/>
            <a:ext cx="712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рограммно-аппаратн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комплексе </a:t>
            </a:r>
            <a:r>
              <a:rPr b="1" lang="en-US" sz="4400" spc="-1" strike="noStrike">
                <a:solidFill>
                  <a:srgbClr val="cc3300"/>
                </a:solidFill>
                <a:latin typeface="Verdana"/>
              </a:rPr>
              <a:t>PRIV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57840" y="5452920"/>
            <a:ext cx="349884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cc3300"/>
              </a:buClr>
              <a:buFont typeface="Wingdings" charset="2"/>
              <a:buChar char="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российская криптограф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450040"/>
            <a:ext cx="340524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cc3300"/>
              </a:buClr>
              <a:buFont typeface="Wingdings" charset="2"/>
              <a:buChar char="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идеология «сети доверия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129520" y="5970600"/>
            <a:ext cx="1014480" cy="887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72400" y="51436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Verdana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ПАК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PRIVACY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защиту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жестких диск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даваемых по се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63680" y="1042560"/>
            <a:ext cx="8216640" cy="126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299440" y="6086520"/>
            <a:ext cx="844560" cy="771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65600" y="5303880"/>
            <a:ext cx="328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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cc3300"/>
                </a:solidFill>
                <a:latin typeface="Verdana"/>
              </a:rPr>
              <a:t>программная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cc3300"/>
                </a:solidFill>
                <a:latin typeface="Verdana"/>
              </a:rPr>
              <a:t>надстрой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IV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72400" y="51436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Verdana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7240" y="5367240"/>
            <a:ext cx="349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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cc3300"/>
                </a:solidFill>
                <a:latin typeface="Verdana"/>
              </a:rPr>
              <a:t>аппаратный бази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ПСКЗИ ШИП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196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ПАК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RIVACY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61880" y="2295360"/>
            <a:ext cx="767232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ка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Х.50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ка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оссийско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рубежной криптограф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ка протоколо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ME, S/MIME, PGP/MIME, OSC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95360" y="1042560"/>
            <a:ext cx="8217000" cy="126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342280" y="6265800"/>
            <a:ext cx="801720" cy="592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6440" y="1434960"/>
            <a:ext cx="8331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совместимость с другими прилож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196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ПАК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RIVACY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>
            <a:off x="461880" y="2295360"/>
            <a:ext cx="767232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требу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страивания в почтовые клиенты дополнительных модул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требу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зменения настроек почтового клиен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требу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пециальных знаний для настройки и примен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95360" y="1042560"/>
            <a:ext cx="8217000" cy="126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42280" y="6265800"/>
            <a:ext cx="801720" cy="592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440" y="1434960"/>
            <a:ext cx="8331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самостоятельность проду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ПАК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RIVACY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63680" y="1042560"/>
            <a:ext cx="8216640" cy="126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1268280"/>
            <a:ext cx="83311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интуитивно понятный интерфей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064360" y="6330960"/>
            <a:ext cx="1079640" cy="527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93720" y="1881360"/>
            <a:ext cx="5756400" cy="4365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424320" y="2117880"/>
            <a:ext cx="539748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ПАК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PRIVACY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63680" y="1042560"/>
            <a:ext cx="8216640" cy="126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99440" y="6086520"/>
            <a:ext cx="844560" cy="771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7960" y="4521240"/>
            <a:ext cx="3162240" cy="1346040"/>
          </a:xfrm>
          <a:prstGeom prst="roundRect">
            <a:avLst>
              <a:gd name="adj" fmla="val 16667"/>
            </a:avLst>
          </a:prstGeom>
          <a:solidFill>
            <a:srgbClr val="d7f4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9760" y="1906560"/>
            <a:ext cx="3162240" cy="134640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5720" y="4668840"/>
            <a:ext cx="349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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cc3300"/>
                </a:solidFill>
                <a:latin typeface="Verdana"/>
              </a:rPr>
              <a:t>аппаратный бази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ПСКЗИ ШИП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7520" y="2014560"/>
            <a:ext cx="328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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cc3300"/>
                </a:solidFill>
                <a:latin typeface="Verdana"/>
              </a:rPr>
              <a:t>программная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cc3300"/>
                </a:solidFill>
                <a:latin typeface="Verdana"/>
              </a:rPr>
              <a:t>надстрой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IV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7040" y="31878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Verdana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48200" y="1695600"/>
            <a:ext cx="481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SzPct val="150000"/>
              <a:buFont typeface="Wingdings" charset="2"/>
              <a:buChar char="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оддержка Х.509 – 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совместим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с приложениями, работающими в идеологии У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SzPct val="150000"/>
              <a:buFont typeface="Wingdings" charset="2"/>
              <a:buChar char="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амостоятельность – 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независим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от конкретного кл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SzPct val="150000"/>
              <a:buFont typeface="Wingdings" charset="2"/>
              <a:buChar char="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онятный интерфейс – 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простота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настройки и 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удобств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приме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7040" y="4452840"/>
            <a:ext cx="481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SzPct val="150000"/>
              <a:buFont typeface="Wingdings" charset="2"/>
              <a:buChar char="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аппаратная генерация и хранение 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клю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SzPct val="150000"/>
              <a:buFont typeface="Wingdings" charset="2"/>
              <a:buChar char="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аппаратные 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криптографические вы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SzPct val="150000"/>
              <a:buFont typeface="Wingdings" charset="2"/>
              <a:buChar char="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аппаратное хранение 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настроек и правил фильтрации сооб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11:17Z</dcterms:created>
  <dc:creator>Masha</dc:creator>
  <dc:description/>
  <dc:language>en-US</dc:language>
  <cp:lastModifiedBy>Света</cp:lastModifiedBy>
  <dcterms:modified xsi:type="dcterms:W3CDTF">2008-10-22T06:41:33Z</dcterms:modified>
  <cp:revision>176</cp:revision>
  <dc:subject/>
  <dc:title>ПЕРСОНАЛЬНОЕ СКЗИ шипка-1.5</dc:title>
</cp:coreProperties>
</file>