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B50-2701-4AB8-8941-64FA1A8D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053-2D24-41F5-A655-89E65682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82F-D7B4-4530-BDC5-BD8F61A4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8E1-B39C-46A1-8985-4E974340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4D2-DF3D-4D8D-AC0B-83BCBC85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E28-41CA-4976-A722-D9BF8845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639-30B7-4B6E-8B34-9BCB2B4A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E97-5D77-45BE-99AD-468D7B29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471-35D1-47E2-9A9B-853CE0F2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A73-8B58-458B-B03D-A65E85C0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B4C-276B-481C-9348-4296919B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75A-1197-42EB-B85C-088CFA14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01EC-EF30-47DF-A5B6-EF65007122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5.jpe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22160"/>
            <a:ext cx="9144000" cy="6162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07560" y="85680"/>
            <a:ext cx="62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еспечение конфиденциальности ресур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ходящегося в общем досту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38920" y="8366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ОКБ СА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080" y="115920"/>
            <a:ext cx="221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онявская С. 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арелина А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24000" y="1773360"/>
            <a:ext cx="583236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3500280"/>
            <a:ext cx="5832360" cy="158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205000"/>
            <a:ext cx="1008000" cy="936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6720" y="3952800"/>
            <a:ext cx="863640" cy="792360"/>
          </a:xfrm>
          <a:prstGeom prst="rightArrowCallout">
            <a:avLst>
              <a:gd name="adj1" fmla="val 25002"/>
              <a:gd name="adj2" fmla="val 25000"/>
              <a:gd name="adj3" fmla="val 18166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94680" y="234936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72360" y="1081080"/>
            <a:ext cx="718920" cy="598320"/>
          </a:xfrm>
          <a:prstGeom prst="rightArrowCallout">
            <a:avLst>
              <a:gd name="adj1" fmla="val 25002"/>
              <a:gd name="adj2" fmla="val 25000"/>
              <a:gd name="adj3" fmla="val 20026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716360" y="2062080"/>
            <a:ext cx="936720" cy="1079280"/>
            <a:chOff x="4716360" y="2062080"/>
            <a:chExt cx="936720" cy="1079280"/>
          </a:xfrm>
        </p:grpSpPr>
        <p:sp>
          <p:nvSpPr>
            <p:cNvPr id="269" name=""/>
            <p:cNvSpPr/>
            <p:nvPr/>
          </p:nvSpPr>
          <p:spPr>
            <a:xfrm>
              <a:off x="4716360" y="2062080"/>
              <a:ext cx="936720" cy="1079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05440" y="2206440"/>
              <a:ext cx="33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Verdana"/>
                </a:rPr>
                <a:t>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24000" y="5229360"/>
            <a:ext cx="5832360" cy="158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5518080"/>
            <a:ext cx="1008000" cy="936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08000" y="5589720"/>
            <a:ext cx="863640" cy="792000"/>
          </a:xfrm>
          <a:prstGeom prst="rightArrowCallout">
            <a:avLst>
              <a:gd name="adj1" fmla="val 25002"/>
              <a:gd name="adj2" fmla="val 25000"/>
              <a:gd name="adj3" fmla="val 18174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80200" y="5661000"/>
            <a:ext cx="7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В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764240" y="5445000"/>
            <a:ext cx="959760" cy="1131840"/>
            <a:chOff x="4764240" y="5445000"/>
            <a:chExt cx="959760" cy="1131840"/>
          </a:xfrm>
        </p:grpSpPr>
        <p:sp>
          <p:nvSpPr>
            <p:cNvPr id="276" name=""/>
            <p:cNvSpPr/>
            <p:nvPr/>
          </p:nvSpPr>
          <p:spPr>
            <a:xfrm>
              <a:off x="4764240" y="5445000"/>
              <a:ext cx="936360" cy="1079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ock"/>
            <p:cNvSpPr/>
            <p:nvPr/>
          </p:nvSpPr>
          <p:spPr>
            <a:xfrm>
              <a:off x="5267160" y="5949720"/>
              <a:ext cx="456840" cy="62712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4764240" y="5445000"/>
              <a:ext cx="709200" cy="94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"/>
          <p:cNvSpPr/>
          <p:nvPr/>
        </p:nvSpPr>
        <p:spPr>
          <a:xfrm>
            <a:off x="6302520" y="4797360"/>
            <a:ext cx="717480" cy="863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65960" y="4886280"/>
            <a:ext cx="3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Verdan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94880" y="4962600"/>
            <a:ext cx="11455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3879720"/>
            <a:ext cx="1008000" cy="936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08920" y="4024440"/>
            <a:ext cx="7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В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105264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шиф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8000" y="2205000"/>
            <a:ext cx="863640" cy="792360"/>
          </a:xfrm>
          <a:prstGeom prst="rightArrowCallout">
            <a:avLst>
              <a:gd name="adj1" fmla="val 25002"/>
              <a:gd name="adj2" fmla="val 25000"/>
              <a:gd name="adj3" fmla="val 18166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691160" y="3736800"/>
            <a:ext cx="960480" cy="1131840"/>
            <a:chOff x="4691160" y="3736800"/>
            <a:chExt cx="960480" cy="1131840"/>
          </a:xfrm>
        </p:grpSpPr>
        <p:sp>
          <p:nvSpPr>
            <p:cNvPr id="287" name=""/>
            <p:cNvSpPr/>
            <p:nvPr/>
          </p:nvSpPr>
          <p:spPr>
            <a:xfrm>
              <a:off x="4691160" y="3736800"/>
              <a:ext cx="936720" cy="1079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ock"/>
            <p:cNvSpPr/>
            <p:nvPr/>
          </p:nvSpPr>
          <p:spPr>
            <a:xfrm>
              <a:off x="5194440" y="4241520"/>
              <a:ext cx="457200" cy="62712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4691160" y="3736800"/>
              <a:ext cx="709560" cy="94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"/>
          <p:cNvSpPr/>
          <p:nvPr/>
        </p:nvSpPr>
        <p:spPr>
          <a:xfrm>
            <a:off x="7097400" y="1816200"/>
            <a:ext cx="179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крытый клю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97400" y="2514600"/>
            <a:ext cx="179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рытый клю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25040" y="3881520"/>
            <a:ext cx="175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шифров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227640" y="3789360"/>
            <a:ext cx="720720" cy="936360"/>
            <a:chOff x="6227640" y="3789360"/>
            <a:chExt cx="720720" cy="936360"/>
          </a:xfrm>
        </p:grpSpPr>
        <p:sp>
          <p:nvSpPr>
            <p:cNvPr id="294" name=""/>
            <p:cNvSpPr/>
            <p:nvPr/>
          </p:nvSpPr>
          <p:spPr>
            <a:xfrm>
              <a:off x="6227640" y="3789360"/>
              <a:ext cx="720720" cy="8942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ock"/>
            <p:cNvSpPr/>
            <p:nvPr/>
          </p:nvSpPr>
          <p:spPr>
            <a:xfrm>
              <a:off x="6559560" y="4206240"/>
              <a:ext cx="351720" cy="51948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6283440" y="3845520"/>
              <a:ext cx="349920" cy="599760"/>
              <a:chOff x="6283440" y="3845520"/>
              <a:chExt cx="349920" cy="599760"/>
            </a:xfrm>
          </p:grpSpPr>
          <p:pic>
            <p:nvPicPr>
              <p:cNvPr id="2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83440" y="3845520"/>
                <a:ext cx="273600" cy="59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6294240" y="390456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2843280" y="3736800"/>
            <a:ext cx="936360" cy="1130400"/>
            <a:chOff x="2843280" y="3736800"/>
            <a:chExt cx="936360" cy="1130400"/>
          </a:xfrm>
        </p:grpSpPr>
        <p:sp>
          <p:nvSpPr>
            <p:cNvPr id="300" name=""/>
            <p:cNvSpPr/>
            <p:nvPr/>
          </p:nvSpPr>
          <p:spPr>
            <a:xfrm>
              <a:off x="2843280" y="3736800"/>
              <a:ext cx="936360" cy="1079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ock"/>
            <p:cNvSpPr/>
            <p:nvPr/>
          </p:nvSpPr>
          <p:spPr>
            <a:xfrm>
              <a:off x="3274920" y="4240080"/>
              <a:ext cx="457200" cy="62712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916000" y="3804840"/>
              <a:ext cx="355680" cy="723960"/>
              <a:chOff x="2916000" y="3804840"/>
              <a:chExt cx="355680" cy="723960"/>
            </a:xfrm>
          </p:grpSpPr>
          <p:pic>
            <p:nvPicPr>
              <p:cNvPr id="30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916000" y="3804840"/>
                <a:ext cx="355680" cy="72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2925720" y="387648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"/>
          <p:cNvGrpSpPr/>
          <p:nvPr/>
        </p:nvGrpSpPr>
        <p:grpSpPr>
          <a:xfrm>
            <a:off x="2916360" y="5373720"/>
            <a:ext cx="936360" cy="1130400"/>
            <a:chOff x="2916360" y="5373720"/>
            <a:chExt cx="936360" cy="1130400"/>
          </a:xfrm>
        </p:grpSpPr>
        <p:sp>
          <p:nvSpPr>
            <p:cNvPr id="306" name=""/>
            <p:cNvSpPr/>
            <p:nvPr/>
          </p:nvSpPr>
          <p:spPr>
            <a:xfrm>
              <a:off x="2916360" y="5373720"/>
              <a:ext cx="936360" cy="1079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ock"/>
            <p:cNvSpPr/>
            <p:nvPr/>
          </p:nvSpPr>
          <p:spPr>
            <a:xfrm>
              <a:off x="3348000" y="5877000"/>
              <a:ext cx="457200" cy="62712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989080" y="5441760"/>
              <a:ext cx="355680" cy="723960"/>
              <a:chOff x="2989080" y="5441760"/>
              <a:chExt cx="355680" cy="723960"/>
            </a:xfrm>
          </p:grpSpPr>
          <p:pic>
            <p:nvPicPr>
              <p:cNvPr id="3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89080" y="5441760"/>
                <a:ext cx="355680" cy="72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2998800" y="551340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2771640" y="2062080"/>
            <a:ext cx="936360" cy="1130400"/>
            <a:chOff x="2771640" y="2062080"/>
            <a:chExt cx="936360" cy="1130400"/>
          </a:xfrm>
        </p:grpSpPr>
        <p:sp>
          <p:nvSpPr>
            <p:cNvPr id="312" name=""/>
            <p:cNvSpPr/>
            <p:nvPr/>
          </p:nvSpPr>
          <p:spPr>
            <a:xfrm>
              <a:off x="2771640" y="2062080"/>
              <a:ext cx="936360" cy="1079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ock"/>
            <p:cNvSpPr/>
            <p:nvPr/>
          </p:nvSpPr>
          <p:spPr>
            <a:xfrm>
              <a:off x="3203280" y="2565360"/>
              <a:ext cx="457200" cy="62712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844360" y="2130120"/>
              <a:ext cx="355680" cy="723960"/>
              <a:chOff x="2844360" y="2130120"/>
              <a:chExt cx="355680" cy="723960"/>
            </a:xfrm>
          </p:grpSpPr>
          <p:pic>
            <p:nvPicPr>
              <p:cNvPr id="31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844360" y="2130120"/>
                <a:ext cx="355680" cy="72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2854080" y="220176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6445080" y="1697040"/>
            <a:ext cx="355680" cy="723960"/>
            <a:chOff x="6445080" y="1697040"/>
            <a:chExt cx="355680" cy="723960"/>
          </a:xfrm>
        </p:grpSpPr>
        <p:pic>
          <p:nvPicPr>
            <p:cNvPr id="318" name="" descr=""/>
            <p:cNvPicPr/>
            <p:nvPr/>
          </p:nvPicPr>
          <p:blipFill>
            <a:blip r:embed="rId7"/>
            <a:stretch/>
          </p:blipFill>
          <p:spPr>
            <a:xfrm>
              <a:off x="6445080" y="1697040"/>
              <a:ext cx="35568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454800" y="176868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443640" y="2417760"/>
            <a:ext cx="355320" cy="723960"/>
            <a:chOff x="6443640" y="2417760"/>
            <a:chExt cx="355320" cy="723960"/>
          </a:xfrm>
        </p:grpSpPr>
        <p:pic>
          <p:nvPicPr>
            <p:cNvPr id="321" name="" descr=""/>
            <p:cNvPicPr/>
            <p:nvPr/>
          </p:nvPicPr>
          <p:blipFill>
            <a:blip r:embed="rId8"/>
            <a:stretch/>
          </p:blipFill>
          <p:spPr>
            <a:xfrm>
              <a:off x="6443640" y="2417760"/>
              <a:ext cx="35532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454800" y="27050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050920" y="2205000"/>
            <a:ext cx="355680" cy="723960"/>
            <a:chOff x="2050920" y="2205000"/>
            <a:chExt cx="355680" cy="723960"/>
          </a:xfrm>
        </p:grpSpPr>
        <p:pic>
          <p:nvPicPr>
            <p:cNvPr id="324" name="" descr=""/>
            <p:cNvPicPr/>
            <p:nvPr/>
          </p:nvPicPr>
          <p:blipFill>
            <a:blip r:embed="rId9"/>
            <a:stretch/>
          </p:blipFill>
          <p:spPr>
            <a:xfrm>
              <a:off x="2050920" y="2205000"/>
              <a:ext cx="35568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062440" y="249228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7297560" y="5862600"/>
            <a:ext cx="17352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айл, которы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е удалось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асшифрова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300720" y="5754600"/>
            <a:ext cx="792000" cy="987120"/>
            <a:chOff x="6300720" y="5754600"/>
            <a:chExt cx="792000" cy="987120"/>
          </a:xfrm>
        </p:grpSpPr>
        <p:sp>
          <p:nvSpPr>
            <p:cNvPr id="328" name=""/>
            <p:cNvSpPr/>
            <p:nvPr/>
          </p:nvSpPr>
          <p:spPr>
            <a:xfrm>
              <a:off x="6300720" y="5754600"/>
              <a:ext cx="772560" cy="941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ock"/>
            <p:cNvSpPr/>
            <p:nvPr/>
          </p:nvSpPr>
          <p:spPr>
            <a:xfrm>
              <a:off x="6715800" y="6194880"/>
              <a:ext cx="376920" cy="54684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10"/>
            <a:stretch/>
          </p:blipFill>
          <p:spPr>
            <a:xfrm>
              <a:off x="6300720" y="5754600"/>
              <a:ext cx="585360" cy="82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"/>
          <p:cNvSpPr/>
          <p:nvPr/>
        </p:nvSpPr>
        <p:spPr>
          <a:xfrm>
            <a:off x="3780000" y="2349360"/>
            <a:ext cx="792000" cy="432000"/>
          </a:xfrm>
          <a:custGeom>
            <a:avLst/>
            <a:gdLst>
              <a:gd name="textAreaLeft" fmla="*/ 0 w 792000"/>
              <a:gd name="textAreaRight" fmla="*/ 792360 w 792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1280" y="4024440"/>
            <a:ext cx="792000" cy="431640"/>
          </a:xfrm>
          <a:custGeom>
            <a:avLst/>
            <a:gdLst>
              <a:gd name="textAreaLeft" fmla="*/ 0 w 792000"/>
              <a:gd name="textAreaRight" fmla="*/ 792360 w 792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24360" y="5732640"/>
            <a:ext cx="792000" cy="431640"/>
          </a:xfrm>
          <a:custGeom>
            <a:avLst/>
            <a:gdLst>
              <a:gd name="textAreaLeft" fmla="*/ 0 w 792000"/>
              <a:gd name="textAreaRight" fmla="*/ 792360 w 792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00720" y="3213000"/>
            <a:ext cx="792360" cy="432000"/>
          </a:xfrm>
          <a:custGeom>
            <a:avLst/>
            <a:gdLst>
              <a:gd name="textAreaLeft" fmla="*/ 0 w 792360"/>
              <a:gd name="textAreaRight" fmla="*/ 792720 w 792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88040" y="316224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89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1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зашифровали файлы на открытом ключе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может расшифровывать эти файлы, 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1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– н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так как у них нет закрытого ключ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900000" y="2060640"/>
            <a:ext cx="1008000" cy="936360"/>
            <a:chOff x="900000" y="2060640"/>
            <a:chExt cx="1008000" cy="936360"/>
          </a:xfrm>
        </p:grpSpPr>
        <p:sp>
          <p:nvSpPr>
            <p:cNvPr id="338" name=""/>
            <p:cNvSpPr/>
            <p:nvPr/>
          </p:nvSpPr>
          <p:spPr>
            <a:xfrm>
              <a:off x="900000" y="2060640"/>
              <a:ext cx="1008000" cy="9363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39040" y="2205000"/>
              <a:ext cx="49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Verdan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724360" y="1974960"/>
            <a:ext cx="1008360" cy="936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865120" y="2119320"/>
            <a:ext cx="7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В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2997360"/>
            <a:ext cx="1008000" cy="936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61520" y="314172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851280" y="4941720"/>
            <a:ext cx="1008000" cy="936720"/>
            <a:chOff x="3851280" y="4941720"/>
            <a:chExt cx="1008000" cy="936720"/>
          </a:xfrm>
        </p:grpSpPr>
        <p:sp>
          <p:nvSpPr>
            <p:cNvPr id="345" name=""/>
            <p:cNvSpPr/>
            <p:nvPr/>
          </p:nvSpPr>
          <p:spPr>
            <a:xfrm>
              <a:off x="3851280" y="4941720"/>
              <a:ext cx="1008000" cy="9367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89960" y="508608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Verdana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39640" y="4581360"/>
            <a:ext cx="2737080" cy="18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73680" y="602136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"/>
          <p:cNvCxnSpPr>
            <a:stCxn id="350" idx="2"/>
            <a:endCxn id="338" idx="3"/>
          </p:cNvCxnSpPr>
          <p:nvPr/>
        </p:nvCxnSpPr>
        <p:spPr>
          <a:xfrm flipH="1">
            <a:off x="1907280" y="2355480"/>
            <a:ext cx="1701000" cy="17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52" idx="2"/>
            <a:endCxn id="338" idx="3"/>
          </p:cNvCxnSpPr>
          <p:nvPr/>
        </p:nvCxnSpPr>
        <p:spPr>
          <a:xfrm flipH="1" flipV="1">
            <a:off x="1907640" y="2529000"/>
            <a:ext cx="1308960" cy="66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1042920" y="2997360"/>
            <a:ext cx="0" cy="15840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692360" y="2997360"/>
            <a:ext cx="0" cy="15840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524560" y="4148280"/>
            <a:ext cx="520560" cy="649080"/>
            <a:chOff x="5524560" y="4148280"/>
            <a:chExt cx="520560" cy="649080"/>
          </a:xfrm>
        </p:grpSpPr>
        <p:pic>
          <p:nvPicPr>
            <p:cNvPr id="356" name="" descr=""/>
            <p:cNvPicPr/>
            <p:nvPr/>
          </p:nvPicPr>
          <p:blipFill>
            <a:blip r:embed="rId1"/>
            <a:stretch/>
          </p:blipFill>
          <p:spPr>
            <a:xfrm>
              <a:off x="5614920" y="4148280"/>
              <a:ext cx="3193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524560" y="422136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093000" y="4835520"/>
            <a:ext cx="304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юч шифров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шифрованный на откры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юче пользователя группы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435640" y="59007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87240" y="41482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крытый клю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ьзователя группы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"/>
          <p:cNvCxnSpPr>
            <a:stCxn id="342" idx="1"/>
            <a:endCxn id="352" idx="2"/>
          </p:cNvCxnSpPr>
          <p:nvPr/>
        </p:nvCxnSpPr>
        <p:spPr>
          <a:xfrm flipH="1" flipV="1">
            <a:off x="3215520" y="3188520"/>
            <a:ext cx="1661400" cy="276840"/>
          </a:xfrm>
          <a:prstGeom prst="straightConnector1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362" name=""/>
          <p:cNvCxnSpPr>
            <a:stCxn id="340" idx="1"/>
            <a:endCxn id="350" idx="2"/>
          </p:cNvCxnSpPr>
          <p:nvPr/>
        </p:nvCxnSpPr>
        <p:spPr>
          <a:xfrm flipH="1" flipV="1">
            <a:off x="3607920" y="2355480"/>
            <a:ext cx="2116800" cy="87840"/>
          </a:xfrm>
          <a:prstGeom prst="straightConnector1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 flipH="1">
            <a:off x="5434920" y="6332400"/>
            <a:ext cx="935640" cy="5760"/>
          </a:xfrm>
          <a:prstGeom prst="straightConnector1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6521040" y="5684760"/>
            <a:ext cx="18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порт в ШИП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520680" y="611676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кспорт из ШИП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295600" y="4950000"/>
            <a:ext cx="824040" cy="677160"/>
            <a:chOff x="5295600" y="4950000"/>
            <a:chExt cx="824040" cy="677160"/>
          </a:xfrm>
        </p:grpSpPr>
        <p:grpSp>
          <p:nvGrpSpPr>
            <p:cNvPr id="367" name=""/>
            <p:cNvGrpSpPr/>
            <p:nvPr/>
          </p:nvGrpSpPr>
          <p:grpSpPr>
            <a:xfrm>
              <a:off x="5295600" y="4950000"/>
              <a:ext cx="714600" cy="677160"/>
              <a:chOff x="5295600" y="4950000"/>
              <a:chExt cx="714600" cy="677160"/>
            </a:xfrm>
          </p:grpSpPr>
          <p:pic>
            <p:nvPicPr>
              <p:cNvPr id="368" name="" descr="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5410080" y="4865040"/>
                <a:ext cx="355320" cy="5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"/>
              <p:cNvSpPr/>
              <p:nvPr/>
            </p:nvSpPr>
            <p:spPr>
              <a:xfrm>
                <a:off x="5304240" y="495000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7600" y="5051160"/>
                <a:ext cx="28260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1" name=""/>
            <p:cNvSpPr/>
            <p:nvPr/>
          </p:nvSpPr>
          <p:spPr>
            <a:xfrm>
              <a:off x="5599080" y="519552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375360" y="1916280"/>
            <a:ext cx="465840" cy="649080"/>
            <a:chOff x="3375360" y="1916280"/>
            <a:chExt cx="465840" cy="649080"/>
          </a:xfrm>
        </p:grpSpPr>
        <p:pic>
          <p:nvPicPr>
            <p:cNvPr id="373" name="" descr=""/>
            <p:cNvPicPr/>
            <p:nvPr/>
          </p:nvPicPr>
          <p:blipFill>
            <a:blip r:embed="rId4"/>
            <a:stretch/>
          </p:blipFill>
          <p:spPr>
            <a:xfrm>
              <a:off x="3454200" y="1916280"/>
              <a:ext cx="3193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3375360" y="198936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955960" y="2749680"/>
            <a:ext cx="520560" cy="649080"/>
            <a:chOff x="2955960" y="2749680"/>
            <a:chExt cx="520560" cy="649080"/>
          </a:xfrm>
        </p:grpSpPr>
        <p:pic>
          <p:nvPicPr>
            <p:cNvPr id="375" name="" descr=""/>
            <p:cNvPicPr/>
            <p:nvPr/>
          </p:nvPicPr>
          <p:blipFill>
            <a:blip r:embed="rId5"/>
            <a:stretch/>
          </p:blipFill>
          <p:spPr>
            <a:xfrm>
              <a:off x="3046320" y="2749680"/>
              <a:ext cx="3193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955960" y="282276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261800" y="3471840"/>
            <a:ext cx="780480" cy="677880"/>
            <a:chOff x="1261800" y="3471840"/>
            <a:chExt cx="780480" cy="677880"/>
          </a:xfrm>
        </p:grpSpPr>
        <p:grpSp>
          <p:nvGrpSpPr>
            <p:cNvPr id="377" name=""/>
            <p:cNvGrpSpPr/>
            <p:nvPr/>
          </p:nvGrpSpPr>
          <p:grpSpPr>
            <a:xfrm>
              <a:off x="1261800" y="3471840"/>
              <a:ext cx="713880" cy="677880"/>
              <a:chOff x="1261800" y="3471840"/>
              <a:chExt cx="713880" cy="677880"/>
            </a:xfrm>
          </p:grpSpPr>
          <p:pic>
            <p:nvPicPr>
              <p:cNvPr id="378" name="" descr=""/>
              <p:cNvPicPr/>
              <p:nvPr/>
            </p:nvPicPr>
            <p:blipFill>
              <a:blip r:embed="rId6"/>
              <a:stretch/>
            </p:blipFill>
            <p:spPr>
              <a:xfrm rot="5400000">
                <a:off x="1375920" y="3387600"/>
                <a:ext cx="355680" cy="5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1270080" y="34718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693440" y="3573360"/>
                <a:ext cx="28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1" name=""/>
            <p:cNvSpPr/>
            <p:nvPr/>
          </p:nvSpPr>
          <p:spPr>
            <a:xfrm>
              <a:off x="1576440" y="371772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42520" y="3471840"/>
            <a:ext cx="780840" cy="677880"/>
            <a:chOff x="542520" y="3471840"/>
            <a:chExt cx="780840" cy="677880"/>
          </a:xfrm>
        </p:grpSpPr>
        <p:grpSp>
          <p:nvGrpSpPr>
            <p:cNvPr id="383" name=""/>
            <p:cNvGrpSpPr/>
            <p:nvPr/>
          </p:nvGrpSpPr>
          <p:grpSpPr>
            <a:xfrm>
              <a:off x="542520" y="3471840"/>
              <a:ext cx="714600" cy="677880"/>
              <a:chOff x="542520" y="3471840"/>
              <a:chExt cx="714600" cy="677880"/>
            </a:xfrm>
          </p:grpSpPr>
          <p:pic>
            <p:nvPicPr>
              <p:cNvPr id="384" name="" descr=""/>
              <p:cNvPicPr/>
              <p:nvPr/>
            </p:nvPicPr>
            <p:blipFill>
              <a:blip r:embed="rId8"/>
              <a:stretch/>
            </p:blipFill>
            <p:spPr>
              <a:xfrm rot="5400000">
                <a:off x="656640" y="3387240"/>
                <a:ext cx="355680" cy="5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>
                <a:off x="551160" y="34718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974520" y="3573360"/>
                <a:ext cx="28260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7" name=""/>
            <p:cNvSpPr/>
            <p:nvPr/>
          </p:nvSpPr>
          <p:spPr>
            <a:xfrm>
              <a:off x="857520" y="371772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68280" y="0"/>
            <a:ext cx="7808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В1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и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N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кспортируют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свои открытые клю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в файлы,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мпортирует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их в свою ШИП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а затем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кспортирует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свой ключ шифр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зашифрованным на каждом из получ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клю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395280" y="2347920"/>
            <a:ext cx="1008000" cy="936360"/>
            <a:chOff x="395280" y="2347920"/>
            <a:chExt cx="1008000" cy="936360"/>
          </a:xfrm>
        </p:grpSpPr>
        <p:sp>
          <p:nvSpPr>
            <p:cNvPr id="390" name=""/>
            <p:cNvSpPr/>
            <p:nvPr/>
          </p:nvSpPr>
          <p:spPr>
            <a:xfrm>
              <a:off x="395280" y="2347920"/>
              <a:ext cx="1008000" cy="9363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4320" y="2492280"/>
              <a:ext cx="49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Verdan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2050920" y="3068640"/>
            <a:ext cx="1008360" cy="936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47120" y="3213000"/>
            <a:ext cx="7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В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708360" y="3139920"/>
            <a:ext cx="1008000" cy="936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09160" y="328464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211640" y="5084640"/>
            <a:ext cx="1008000" cy="936720"/>
            <a:chOff x="4211640" y="5084640"/>
            <a:chExt cx="1008000" cy="936720"/>
          </a:xfrm>
        </p:grpSpPr>
        <p:sp>
          <p:nvSpPr>
            <p:cNvPr id="397" name=""/>
            <p:cNvSpPr/>
            <p:nvPr/>
          </p:nvSpPr>
          <p:spPr>
            <a:xfrm>
              <a:off x="4211640" y="5084640"/>
              <a:ext cx="1008000" cy="9367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50320" y="522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Verdana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39640" y="4581360"/>
            <a:ext cx="2737080" cy="18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73680" y="602136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"/>
          <p:cNvCxnSpPr>
            <a:stCxn id="402" idx="3"/>
            <a:endCxn id="392" idx="2"/>
          </p:cNvCxnSpPr>
          <p:nvPr/>
        </p:nvCxnSpPr>
        <p:spPr>
          <a:xfrm flipV="1">
            <a:off x="1046160" y="4004640"/>
            <a:ext cx="1510560" cy="11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404" idx="0"/>
            <a:endCxn id="394" idx="2"/>
          </p:cNvCxnSpPr>
          <p:nvPr/>
        </p:nvCxnSpPr>
        <p:spPr>
          <a:xfrm flipV="1">
            <a:off x="1331640" y="4075920"/>
            <a:ext cx="2881800" cy="16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406" idx="0"/>
          </p:cNvCxnSpPr>
          <p:nvPr/>
        </p:nvCxnSpPr>
        <p:spPr>
          <a:xfrm flipV="1">
            <a:off x="1321920" y="5733360"/>
            <a:ext cx="2450520" cy="17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708360" y="5300640"/>
            <a:ext cx="824040" cy="8240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6019920" y="2428920"/>
            <a:ext cx="304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юч шифров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шифрованный на откры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юче пользователя группы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76720" y="37814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68440" y="3565440"/>
            <a:ext cx="31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порт в ШИПКУ пользова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5076720" y="411804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968080" y="426240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удачное 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151240" y="2333520"/>
            <a:ext cx="823680" cy="677880"/>
            <a:chOff x="5151240" y="2333520"/>
            <a:chExt cx="823680" cy="677880"/>
          </a:xfrm>
        </p:grpSpPr>
        <p:grpSp>
          <p:nvGrpSpPr>
            <p:cNvPr id="414" name=""/>
            <p:cNvGrpSpPr/>
            <p:nvPr/>
          </p:nvGrpSpPr>
          <p:grpSpPr>
            <a:xfrm>
              <a:off x="5151240" y="2333520"/>
              <a:ext cx="713880" cy="677880"/>
              <a:chOff x="5151240" y="2333520"/>
              <a:chExt cx="713880" cy="677880"/>
            </a:xfrm>
          </p:grpSpPr>
          <p:pic>
            <p:nvPicPr>
              <p:cNvPr id="415" name="" descr="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5265360" y="2249280"/>
                <a:ext cx="355680" cy="5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>
                <a:off x="5159520" y="233352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82880" y="2435040"/>
                <a:ext cx="28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8" name=""/>
            <p:cNvSpPr/>
            <p:nvPr/>
          </p:nvSpPr>
          <p:spPr>
            <a:xfrm>
              <a:off x="5454360" y="257940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87240" y="4941720"/>
            <a:ext cx="780480" cy="677880"/>
            <a:chOff x="687240" y="4941720"/>
            <a:chExt cx="780480" cy="677880"/>
          </a:xfrm>
        </p:grpSpPr>
        <p:grpSp>
          <p:nvGrpSpPr>
            <p:cNvPr id="420" name=""/>
            <p:cNvGrpSpPr/>
            <p:nvPr/>
          </p:nvGrpSpPr>
          <p:grpSpPr>
            <a:xfrm>
              <a:off x="687240" y="4941720"/>
              <a:ext cx="713880" cy="677880"/>
              <a:chOff x="687240" y="4941720"/>
              <a:chExt cx="713880" cy="677880"/>
            </a:xfrm>
          </p:grpSpPr>
          <p:pic>
            <p:nvPicPr>
              <p:cNvPr id="421" name="" descr=""/>
              <p:cNvPicPr/>
              <p:nvPr/>
            </p:nvPicPr>
            <p:blipFill>
              <a:blip r:embed="rId5"/>
              <a:stretch/>
            </p:blipFill>
            <p:spPr>
              <a:xfrm rot="5400000">
                <a:off x="801360" y="4857480"/>
                <a:ext cx="355680" cy="5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>
                <a:off x="695520" y="494172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8880" y="5043240"/>
                <a:ext cx="28224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3" name=""/>
            <p:cNvSpPr/>
            <p:nvPr/>
          </p:nvSpPr>
          <p:spPr>
            <a:xfrm>
              <a:off x="1001880" y="518760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58520" y="5661000"/>
            <a:ext cx="824040" cy="677880"/>
            <a:chOff x="758520" y="5661000"/>
            <a:chExt cx="824040" cy="677880"/>
          </a:xfrm>
        </p:grpSpPr>
        <p:grpSp>
          <p:nvGrpSpPr>
            <p:cNvPr id="425" name=""/>
            <p:cNvGrpSpPr/>
            <p:nvPr/>
          </p:nvGrpSpPr>
          <p:grpSpPr>
            <a:xfrm>
              <a:off x="758520" y="5661000"/>
              <a:ext cx="714600" cy="677880"/>
              <a:chOff x="758520" y="5661000"/>
              <a:chExt cx="714600" cy="677880"/>
            </a:xfrm>
          </p:grpSpPr>
          <p:pic>
            <p:nvPicPr>
              <p:cNvPr id="426" name="" descr=""/>
              <p:cNvPicPr/>
              <p:nvPr/>
            </p:nvPicPr>
            <p:blipFill>
              <a:blip r:embed="rId7"/>
              <a:stretch/>
            </p:blipFill>
            <p:spPr>
              <a:xfrm rot="5400000">
                <a:off x="872640" y="5576400"/>
                <a:ext cx="355680" cy="5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767160" y="566100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0520" y="5762520"/>
                <a:ext cx="28260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6" name=""/>
            <p:cNvSpPr/>
            <p:nvPr/>
          </p:nvSpPr>
          <p:spPr>
            <a:xfrm>
              <a:off x="1062000" y="590688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45320" y="115920"/>
            <a:ext cx="833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990033"/>
                </a:solidFill>
                <a:latin typeface="Verdana"/>
              </a:rPr>
              <a:t> разбирают ключи, экспортированные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</a:rPr>
              <a:t>них, и импортируют их в свои ШИПКИ, а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С</a:t>
            </a:r>
            <a:r>
              <a:rPr b="1" lang="en-US" sz="2400" spc="-1" strike="noStrike">
                <a:solidFill>
                  <a:srgbClr val="990033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</a:rPr>
              <a:t>не могут импортировать такие ключ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</a:rPr>
              <a:t>так как у них нет необходимых закрытых ключ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24000" y="1484280"/>
            <a:ext cx="583236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4000" y="3139920"/>
            <a:ext cx="5832360" cy="2233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55640" y="1916280"/>
            <a:ext cx="1008000" cy="936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55640" y="3284640"/>
            <a:ext cx="1008000" cy="936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71640" y="1773360"/>
            <a:ext cx="936720" cy="1079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16360" y="3645000"/>
            <a:ext cx="936720" cy="1079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63640" y="1916280"/>
            <a:ext cx="1008000" cy="8650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216360 h 865080"/>
              <a:gd name="textAreaBottom" fmla="*/ 649080 h 86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36720" y="3860640"/>
            <a:ext cx="863640" cy="792360"/>
          </a:xfrm>
          <a:prstGeom prst="rightArrowCallout">
            <a:avLst>
              <a:gd name="adj1" fmla="val 25002"/>
              <a:gd name="adj2" fmla="val 25000"/>
              <a:gd name="adj3" fmla="val 18166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94680" y="206064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94680" y="342900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443640" y="974880"/>
            <a:ext cx="936720" cy="720720"/>
          </a:xfrm>
          <a:custGeom>
            <a:avLst/>
            <a:gdLst>
              <a:gd name="textAreaLeft" fmla="*/ 146160 w 936720"/>
              <a:gd name="textAreaRight" fmla="*/ 819720 w 936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516720" y="1766880"/>
            <a:ext cx="790560" cy="647640"/>
          </a:xfrm>
          <a:prstGeom prst="rightArrowCallout">
            <a:avLst>
              <a:gd name="adj1" fmla="val 25002"/>
              <a:gd name="adj2" fmla="val 25000"/>
              <a:gd name="adj3" fmla="val 20345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005440" y="3789360"/>
            <a:ext cx="3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Verdan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060720" y="2060640"/>
            <a:ext cx="3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Verdan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4000" y="5445000"/>
            <a:ext cx="5832360" cy="1368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5683320"/>
            <a:ext cx="1008000" cy="936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764240" y="5610240"/>
            <a:ext cx="936360" cy="1079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ock"/>
          <p:cNvSpPr/>
          <p:nvPr/>
        </p:nvSpPr>
        <p:spPr>
          <a:xfrm>
            <a:off x="5267160" y="6114960"/>
            <a:ext cx="457200" cy="6271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908000" y="5754600"/>
            <a:ext cx="863640" cy="792360"/>
          </a:xfrm>
          <a:prstGeom prst="rightArrowCallout">
            <a:avLst>
              <a:gd name="adj1" fmla="val 25002"/>
              <a:gd name="adj2" fmla="val 25000"/>
              <a:gd name="adj3" fmla="val 18166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94320" y="582624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4764240" y="5610240"/>
            <a:ext cx="709560" cy="946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300720" y="4889520"/>
            <a:ext cx="719280" cy="863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72080" y="5051520"/>
            <a:ext cx="2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Verdan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82880" y="104616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шиф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311600" y="183204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шиф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78520" y="26290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юч шиф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166160" y="4064040"/>
            <a:ext cx="1861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зашифрованн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66160" y="5105520"/>
            <a:ext cx="11455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55640" y="4363920"/>
            <a:ext cx="1008000" cy="936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94680" y="450864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6516720" y="2557440"/>
            <a:ext cx="355680" cy="584280"/>
          </a:xfrm>
          <a:prstGeom prst="rect">
            <a:avLst/>
          </a:prstGeom>
          <a:ln w="0">
            <a:noFill/>
          </a:ln>
        </p:spPr>
      </p:pic>
      <p:grpSp>
        <p:nvGrpSpPr>
          <p:cNvPr id="461" name=""/>
          <p:cNvGrpSpPr/>
          <p:nvPr/>
        </p:nvGrpSpPr>
        <p:grpSpPr>
          <a:xfrm>
            <a:off x="6372360" y="3759120"/>
            <a:ext cx="720720" cy="985680"/>
            <a:chOff x="6372360" y="3759120"/>
            <a:chExt cx="720720" cy="985680"/>
          </a:xfrm>
        </p:grpSpPr>
        <p:sp>
          <p:nvSpPr>
            <p:cNvPr id="462" name=""/>
            <p:cNvSpPr/>
            <p:nvPr/>
          </p:nvSpPr>
          <p:spPr>
            <a:xfrm>
              <a:off x="6372360" y="3759120"/>
              <a:ext cx="720720" cy="941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ock"/>
            <p:cNvSpPr/>
            <p:nvPr/>
          </p:nvSpPr>
          <p:spPr>
            <a:xfrm>
              <a:off x="6704280" y="4197960"/>
              <a:ext cx="351720" cy="54684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4" name="" descr=""/>
            <p:cNvPicPr/>
            <p:nvPr/>
          </p:nvPicPr>
          <p:blipFill>
            <a:blip r:embed="rId3"/>
            <a:stretch/>
          </p:blipFill>
          <p:spPr>
            <a:xfrm>
              <a:off x="6427080" y="3821040"/>
              <a:ext cx="273600" cy="50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"/>
          <p:cNvGrpSpPr/>
          <p:nvPr/>
        </p:nvGrpSpPr>
        <p:grpSpPr>
          <a:xfrm>
            <a:off x="2916360" y="5610240"/>
            <a:ext cx="936360" cy="1130040"/>
            <a:chOff x="2916360" y="5610240"/>
            <a:chExt cx="936360" cy="1130040"/>
          </a:xfrm>
        </p:grpSpPr>
        <p:sp>
          <p:nvSpPr>
            <p:cNvPr id="466" name=""/>
            <p:cNvSpPr/>
            <p:nvPr/>
          </p:nvSpPr>
          <p:spPr>
            <a:xfrm>
              <a:off x="2916360" y="5610240"/>
              <a:ext cx="936360" cy="1079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ock"/>
            <p:cNvSpPr/>
            <p:nvPr/>
          </p:nvSpPr>
          <p:spPr>
            <a:xfrm>
              <a:off x="3348000" y="6113520"/>
              <a:ext cx="457200" cy="62676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8" name="" descr=""/>
            <p:cNvPicPr/>
            <p:nvPr/>
          </p:nvPicPr>
          <p:blipFill>
            <a:blip r:embed="rId4"/>
            <a:stretch/>
          </p:blipFill>
          <p:spPr>
            <a:xfrm>
              <a:off x="2987640" y="5681520"/>
              <a:ext cx="355680" cy="58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"/>
          <p:cNvGrpSpPr/>
          <p:nvPr/>
        </p:nvGrpSpPr>
        <p:grpSpPr>
          <a:xfrm>
            <a:off x="2771640" y="3716280"/>
            <a:ext cx="936360" cy="1130040"/>
            <a:chOff x="2771640" y="3716280"/>
            <a:chExt cx="936360" cy="1130040"/>
          </a:xfrm>
        </p:grpSpPr>
        <p:sp>
          <p:nvSpPr>
            <p:cNvPr id="470" name=""/>
            <p:cNvSpPr/>
            <p:nvPr/>
          </p:nvSpPr>
          <p:spPr>
            <a:xfrm>
              <a:off x="2771640" y="3716280"/>
              <a:ext cx="936360" cy="1079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ock"/>
            <p:cNvSpPr/>
            <p:nvPr/>
          </p:nvSpPr>
          <p:spPr>
            <a:xfrm>
              <a:off x="3203280" y="4219560"/>
              <a:ext cx="457200" cy="62676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2842920" y="3787560"/>
              <a:ext cx="355680" cy="58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"/>
          <p:cNvGrpSpPr/>
          <p:nvPr/>
        </p:nvGrpSpPr>
        <p:grpSpPr>
          <a:xfrm>
            <a:off x="4859280" y="1773360"/>
            <a:ext cx="936360" cy="1130040"/>
            <a:chOff x="4859280" y="1773360"/>
            <a:chExt cx="936360" cy="1130040"/>
          </a:xfrm>
        </p:grpSpPr>
        <p:sp>
          <p:nvSpPr>
            <p:cNvPr id="474" name=""/>
            <p:cNvSpPr/>
            <p:nvPr/>
          </p:nvSpPr>
          <p:spPr>
            <a:xfrm>
              <a:off x="4859280" y="1773360"/>
              <a:ext cx="936360" cy="1079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ock"/>
            <p:cNvSpPr/>
            <p:nvPr/>
          </p:nvSpPr>
          <p:spPr>
            <a:xfrm>
              <a:off x="5290920" y="2276640"/>
              <a:ext cx="457200" cy="62676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" descr=""/>
            <p:cNvPicPr/>
            <p:nvPr/>
          </p:nvPicPr>
          <p:blipFill>
            <a:blip r:embed="rId6"/>
            <a:stretch/>
          </p:blipFill>
          <p:spPr>
            <a:xfrm>
              <a:off x="4930560" y="1844640"/>
              <a:ext cx="355680" cy="58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7" name="" descr=""/>
          <p:cNvPicPr/>
          <p:nvPr/>
        </p:nvPicPr>
        <p:blipFill>
          <a:blip r:embed="rId7"/>
          <a:stretch/>
        </p:blipFill>
        <p:spPr>
          <a:xfrm>
            <a:off x="2843280" y="1773360"/>
            <a:ext cx="355680" cy="5839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8"/>
          <a:stretch/>
        </p:blipFill>
        <p:spPr>
          <a:xfrm>
            <a:off x="1979640" y="393228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9"/>
          <a:stretch/>
        </p:blipFill>
        <p:spPr>
          <a:xfrm>
            <a:off x="2050920" y="2060640"/>
            <a:ext cx="355680" cy="5842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6348240" y="5897520"/>
            <a:ext cx="671760" cy="863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ock"/>
          <p:cNvSpPr/>
          <p:nvPr/>
        </p:nvSpPr>
        <p:spPr>
          <a:xfrm>
            <a:off x="6851520" y="6311880"/>
            <a:ext cx="328680" cy="50184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6348240" y="5729400"/>
            <a:ext cx="673200" cy="8985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7311960" y="5824440"/>
            <a:ext cx="17352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айл, которы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е удалось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асшифрова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24360" y="2131920"/>
            <a:ext cx="792000" cy="432000"/>
          </a:xfrm>
          <a:custGeom>
            <a:avLst/>
            <a:gdLst>
              <a:gd name="textAreaLeft" fmla="*/ 0 w 792000"/>
              <a:gd name="textAreaRight" fmla="*/ 792360 w 792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851280" y="4005360"/>
            <a:ext cx="792000" cy="431640"/>
          </a:xfrm>
          <a:custGeom>
            <a:avLst/>
            <a:gdLst>
              <a:gd name="textAreaLeft" fmla="*/ 0 w 792000"/>
              <a:gd name="textAreaRight" fmla="*/ 792360 w 792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24360" y="5897520"/>
            <a:ext cx="792000" cy="432000"/>
          </a:xfrm>
          <a:custGeom>
            <a:avLst/>
            <a:gdLst>
              <a:gd name="textAreaLeft" fmla="*/ 0 w 792000"/>
              <a:gd name="textAreaRight" fmla="*/ 792360 w 792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00720" y="3232080"/>
            <a:ext cx="792360" cy="432000"/>
          </a:xfrm>
          <a:custGeom>
            <a:avLst/>
            <a:gdLst>
              <a:gd name="textAreaLeft" fmla="*/ 0 w 792360"/>
              <a:gd name="textAreaRight" fmla="*/ 792720 w 792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215120" y="32320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58760" y="47520"/>
            <a:ext cx="87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зашифровал фай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1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могут расшифровывать этот фай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а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С 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– н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542880" y="2523960"/>
            <a:ext cx="822960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з двух зо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ыбирай меньше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52480" y="333360"/>
            <a:ext cx="5829480" cy="5762520"/>
          </a:xfrm>
          <a:prstGeom prst="noSmoking">
            <a:avLst>
              <a:gd name="adj" fmla="val 12500"/>
            </a:avLst>
          </a:prstGeom>
          <a:solidFill>
            <a:srgbClr val="9900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722160"/>
            <a:ext cx="9144000" cy="616284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2707560" y="85680"/>
            <a:ext cx="62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еспечение конфиденциальности ресур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ходящегося в общем досту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38920" y="8366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ОКБ СА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17080" y="115920"/>
            <a:ext cx="221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онявская С. 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арелина А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ТРАГИЧЕСКОЕ ПРОТИВОРЕЧ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Verdana"/>
              </a:rPr>
              <a:t>конфиденциальность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ресур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находящегося </a:t>
            </a:r>
            <a:r>
              <a:rPr b="0" lang="en-US" sz="3600" spc="-1" strike="noStrike">
                <a:solidFill>
                  <a:srgbClr val="990033"/>
                </a:solidFill>
                <a:latin typeface="Verdana"/>
              </a:rPr>
              <a:t>в общем доступе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2880" y="2523960"/>
            <a:ext cx="822960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з двух зо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ыбирай меньше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42880" y="2523960"/>
            <a:ext cx="822960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з двух зо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ыбирай меньше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333360"/>
            <a:ext cx="5829480" cy="5762520"/>
          </a:xfrm>
          <a:prstGeom prst="noSmoking">
            <a:avLst>
              <a:gd name="adj" fmla="val 12500"/>
            </a:avLst>
          </a:prstGeom>
          <a:solidFill>
            <a:srgbClr val="9900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1413000"/>
            <a:ext cx="583236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139920"/>
            <a:ext cx="5832360" cy="158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013360"/>
            <a:ext cx="5832360" cy="158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844640"/>
            <a:ext cx="1008000" cy="936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500280"/>
            <a:ext cx="1008000" cy="936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5302080"/>
            <a:ext cx="1008000" cy="936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1701720"/>
            <a:ext cx="936720" cy="1079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1701720"/>
            <a:ext cx="936720" cy="1079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3355920"/>
            <a:ext cx="936720" cy="1079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3355920"/>
            <a:ext cx="936720" cy="1079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5229360"/>
            <a:ext cx="936720" cy="1079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5080" y="5229360"/>
            <a:ext cx="936720" cy="1079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ock"/>
          <p:cNvSpPr/>
          <p:nvPr/>
        </p:nvSpPr>
        <p:spPr>
          <a:xfrm>
            <a:off x="5148360" y="2205000"/>
            <a:ext cx="457200" cy="6271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ock"/>
          <p:cNvSpPr/>
          <p:nvPr/>
        </p:nvSpPr>
        <p:spPr>
          <a:xfrm>
            <a:off x="3205080" y="3860640"/>
            <a:ext cx="457200" cy="6271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ock"/>
          <p:cNvSpPr/>
          <p:nvPr/>
        </p:nvSpPr>
        <p:spPr>
          <a:xfrm>
            <a:off x="3276720" y="5734080"/>
            <a:ext cx="457200" cy="6271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ock"/>
          <p:cNvSpPr/>
          <p:nvPr/>
        </p:nvSpPr>
        <p:spPr>
          <a:xfrm>
            <a:off x="5148360" y="5734080"/>
            <a:ext cx="457200" cy="6271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3640" y="1844640"/>
            <a:ext cx="1008000" cy="8650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216360 h 865080"/>
              <a:gd name="textAreaBottom" fmla="*/ 649080 h 86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6720" y="3571920"/>
            <a:ext cx="863640" cy="792000"/>
          </a:xfrm>
          <a:prstGeom prst="rightArrowCallout">
            <a:avLst>
              <a:gd name="adj1" fmla="val 25002"/>
              <a:gd name="adj2" fmla="val 25000"/>
              <a:gd name="adj3" fmla="val 18174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5373720"/>
            <a:ext cx="863640" cy="792000"/>
          </a:xfrm>
          <a:prstGeom prst="rightArrowCallout">
            <a:avLst>
              <a:gd name="adj1" fmla="val 25002"/>
              <a:gd name="adj2" fmla="val 25000"/>
              <a:gd name="adj3" fmla="val 18174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96840" y="1989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00440" y="364500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00080" y="5445000"/>
            <a:ext cx="4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909720"/>
            <a:ext cx="936360" cy="647640"/>
          </a:xfrm>
          <a:custGeom>
            <a:avLst/>
            <a:gdLst>
              <a:gd name="textAreaLeft" fmla="*/ 146160 w 936360"/>
              <a:gd name="textAreaRight" fmla="*/ 819360 w 936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43640" y="1844640"/>
            <a:ext cx="865080" cy="504720"/>
          </a:xfrm>
          <a:prstGeom prst="rightArrowCallout">
            <a:avLst>
              <a:gd name="adj1" fmla="val 25002"/>
              <a:gd name="adj2" fmla="val 25000"/>
              <a:gd name="adj3" fmla="val 28566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5440" y="3500280"/>
            <a:ext cx="3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Verdan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60720" y="1989000"/>
            <a:ext cx="3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Verdan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5080" y="5229360"/>
            <a:ext cx="709560" cy="946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72360" y="3665520"/>
            <a:ext cx="792000" cy="865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ock"/>
          <p:cNvSpPr/>
          <p:nvPr/>
        </p:nvSpPr>
        <p:spPr>
          <a:xfrm>
            <a:off x="6732720" y="3954600"/>
            <a:ext cx="457200" cy="62676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72360" y="4764240"/>
            <a:ext cx="792000" cy="863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39040" y="4854600"/>
            <a:ext cx="3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Verdan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82880" y="98100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шиф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83240" y="184464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шиф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80640" y="3738600"/>
            <a:ext cx="1861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зашифрованн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7800" y="5051520"/>
            <a:ext cx="11455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00720" y="5805360"/>
            <a:ext cx="792360" cy="935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ock"/>
          <p:cNvSpPr/>
          <p:nvPr/>
        </p:nvSpPr>
        <p:spPr>
          <a:xfrm>
            <a:off x="6804000" y="6308640"/>
            <a:ext cx="360360" cy="50508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300720" y="5805360"/>
            <a:ext cx="617760" cy="822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310160" y="5800680"/>
            <a:ext cx="1689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айл, котор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е удалось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асшифрова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72360" y="2852640"/>
            <a:ext cx="792000" cy="432000"/>
          </a:xfrm>
          <a:custGeom>
            <a:avLst/>
            <a:gdLst>
              <a:gd name="textAreaLeft" fmla="*/ 0 w 792000"/>
              <a:gd name="textAreaRight" fmla="*/ 792360 w 792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59480" y="285264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1280" y="2060640"/>
            <a:ext cx="792000" cy="431640"/>
          </a:xfrm>
          <a:custGeom>
            <a:avLst/>
            <a:gdLst>
              <a:gd name="textAreaLeft" fmla="*/ 0 w 792000"/>
              <a:gd name="textAreaRight" fmla="*/ 792360 w 792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3716280"/>
            <a:ext cx="792000" cy="432000"/>
          </a:xfrm>
          <a:custGeom>
            <a:avLst/>
            <a:gdLst>
              <a:gd name="textAreaLeft" fmla="*/ 0 w 792000"/>
              <a:gd name="textAreaRight" fmla="*/ 792360 w 792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5518080"/>
            <a:ext cx="792000" cy="432000"/>
          </a:xfrm>
          <a:custGeom>
            <a:avLst/>
            <a:gdLst>
              <a:gd name="textAreaLeft" fmla="*/ 0 w 792000"/>
              <a:gd name="textAreaRight" fmla="*/ 792360 w 792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3720" y="15876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Verdana"/>
              </a:rPr>
              <a:t>Обобщенная схема защиты д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Verdana"/>
              </a:rPr>
              <a:t>с помощью шиф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372360" y="1773360"/>
            <a:ext cx="720720" cy="504720"/>
          </a:xfrm>
          <a:custGeom>
            <a:avLst/>
            <a:gdLst>
              <a:gd name="textAreaLeft" fmla="*/ 112320 w 720720"/>
              <a:gd name="textAreaRight" fmla="*/ 630720 w 7207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2498760"/>
            <a:ext cx="647640" cy="431640"/>
          </a:xfrm>
          <a:prstGeom prst="rightArrowCallout">
            <a:avLst>
              <a:gd name="adj1" fmla="val 25002"/>
              <a:gd name="adj2" fmla="val 25000"/>
              <a:gd name="adj3" fmla="val 2500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3789360"/>
            <a:ext cx="576360" cy="7635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ock"/>
          <p:cNvSpPr/>
          <p:nvPr/>
        </p:nvSpPr>
        <p:spPr>
          <a:xfrm>
            <a:off x="6516720" y="4121280"/>
            <a:ext cx="360360" cy="5047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27640" y="4869000"/>
            <a:ext cx="576360" cy="720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35640" y="4888080"/>
            <a:ext cx="2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Verdan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8520" y="184644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шиф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5960" y="249228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шиф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50160" y="3943440"/>
            <a:ext cx="1861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зашифрованн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21800" y="4869000"/>
            <a:ext cx="11455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5327640" cy="1008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27200" y="1197000"/>
            <a:ext cx="854280" cy="906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22520" y="1290600"/>
            <a:ext cx="814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1" lang="ru-RU" sz="3600" spc="-1" strike="noStrike" baseline="-25000">
                <a:solidFill>
                  <a:srgbClr val="333399"/>
                </a:solidFill>
                <a:latin typeface="Verdana"/>
              </a:rPr>
              <a:t>В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1316160"/>
            <a:ext cx="920520" cy="7873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5440" y="1438200"/>
            <a:ext cx="7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4880" y="1355760"/>
            <a:ext cx="922320" cy="727200"/>
          </a:xfrm>
          <a:custGeom>
            <a:avLst/>
            <a:gdLst>
              <a:gd name="textAreaLeft" fmla="*/ 144000 w 922320"/>
              <a:gd name="textAreaRight" fmla="*/ 807120 w 922320"/>
              <a:gd name="textAreaTop" fmla="*/ 181800 h 727200"/>
              <a:gd name="textAreaBottom" fmla="*/ 545400 h 72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205000"/>
            <a:ext cx="5327640" cy="1152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7480" y="2394000"/>
            <a:ext cx="920880" cy="7873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60680" y="2332080"/>
            <a:ext cx="853920" cy="907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67240" y="2332080"/>
            <a:ext cx="855720" cy="907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ock"/>
          <p:cNvSpPr/>
          <p:nvPr/>
        </p:nvSpPr>
        <p:spPr>
          <a:xfrm>
            <a:off x="4905360" y="2757600"/>
            <a:ext cx="417600" cy="52704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3520" y="251460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38360" y="2454120"/>
            <a:ext cx="922320" cy="727200"/>
          </a:xfrm>
          <a:custGeom>
            <a:avLst/>
            <a:gdLst>
              <a:gd name="textAreaLeft" fmla="*/ 144000 w 922320"/>
              <a:gd name="textAreaRight" fmla="*/ 807120 w 922320"/>
              <a:gd name="textAreaTop" fmla="*/ 181800 h 727200"/>
              <a:gd name="textAreaBottom" fmla="*/ 545400 h 72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2475000"/>
            <a:ext cx="792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1" lang="ru-RU" sz="3600" spc="-1" strike="noStrike" baseline="-25000">
                <a:solidFill>
                  <a:srgbClr val="333399"/>
                </a:solidFill>
                <a:latin typeface="Verdana"/>
              </a:rPr>
              <a:t>В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0720" y="1197000"/>
            <a:ext cx="855360" cy="906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ock"/>
          <p:cNvSpPr/>
          <p:nvPr/>
        </p:nvSpPr>
        <p:spPr>
          <a:xfrm>
            <a:off x="4971960" y="1528920"/>
            <a:ext cx="417600" cy="52704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3429000"/>
            <a:ext cx="532764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2320" y="4071960"/>
            <a:ext cx="920880" cy="758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36920" y="3603600"/>
            <a:ext cx="854280" cy="876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60680" y="3603600"/>
            <a:ext cx="853920" cy="876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ock"/>
          <p:cNvSpPr/>
          <p:nvPr/>
        </p:nvSpPr>
        <p:spPr>
          <a:xfrm>
            <a:off x="3021120" y="4011480"/>
            <a:ext cx="417240" cy="50796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2640" y="418932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04960" y="3778200"/>
            <a:ext cx="789120" cy="1233360"/>
          </a:xfrm>
          <a:prstGeom prst="rightArrowCallout">
            <a:avLst>
              <a:gd name="adj1" fmla="val 39077"/>
              <a:gd name="adj2" fmla="val 3907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6920" y="4538520"/>
            <a:ext cx="854280" cy="876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60680" y="4538520"/>
            <a:ext cx="853920" cy="876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ock"/>
          <p:cNvSpPr/>
          <p:nvPr/>
        </p:nvSpPr>
        <p:spPr>
          <a:xfrm>
            <a:off x="3021120" y="4944960"/>
            <a:ext cx="417240" cy="50976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5661000"/>
            <a:ext cx="5327640" cy="1152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7480" y="5881680"/>
            <a:ext cx="920880" cy="7873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60680" y="5819760"/>
            <a:ext cx="853920" cy="907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67240" y="5819760"/>
            <a:ext cx="855720" cy="907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ock"/>
          <p:cNvSpPr/>
          <p:nvPr/>
        </p:nvSpPr>
        <p:spPr>
          <a:xfrm>
            <a:off x="2987640" y="6215040"/>
            <a:ext cx="417600" cy="52704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4800" y="600228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5925960"/>
            <a:ext cx="719280" cy="71928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356000" y="5553000"/>
            <a:ext cx="709560" cy="946080"/>
          </a:xfrm>
          <a:prstGeom prst="rect">
            <a:avLst/>
          </a:prstGeom>
          <a:ln w="0">
            <a:noFill/>
          </a:ln>
        </p:spPr>
      </p:pic>
      <p:sp>
        <p:nvSpPr>
          <p:cNvPr id="140" name="Lock"/>
          <p:cNvSpPr/>
          <p:nvPr/>
        </p:nvSpPr>
        <p:spPr>
          <a:xfrm>
            <a:off x="4932360" y="6129360"/>
            <a:ext cx="417600" cy="52704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227640" y="5734080"/>
            <a:ext cx="811440" cy="993240"/>
            <a:chOff x="6227640" y="5734080"/>
            <a:chExt cx="811440" cy="993240"/>
          </a:xfrm>
        </p:grpSpPr>
        <p:sp>
          <p:nvSpPr>
            <p:cNvPr id="142" name=""/>
            <p:cNvSpPr/>
            <p:nvPr/>
          </p:nvSpPr>
          <p:spPr>
            <a:xfrm>
              <a:off x="6318360" y="5832360"/>
              <a:ext cx="698400" cy="8175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6227640" y="5734080"/>
              <a:ext cx="579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Lock"/>
            <p:cNvSpPr/>
            <p:nvPr/>
          </p:nvSpPr>
          <p:spPr>
            <a:xfrm>
              <a:off x="6698160" y="6252840"/>
              <a:ext cx="340920" cy="47448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167600" y="5800680"/>
            <a:ext cx="17352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айл, которы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е удалось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асшифрова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3716280"/>
            <a:ext cx="814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1" lang="ru-RU" sz="3600" spc="-1" strike="noStrike" baseline="-25000">
                <a:solidFill>
                  <a:srgbClr val="333399"/>
                </a:solidFill>
                <a:latin typeface="Verdana"/>
              </a:rPr>
              <a:t>В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4724280"/>
            <a:ext cx="792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1" lang="ru-RU" sz="3600" spc="-1" strike="noStrike" baseline="-25000">
                <a:solidFill>
                  <a:srgbClr val="333399"/>
                </a:solidFill>
                <a:latin typeface="Verdana"/>
              </a:rPr>
              <a:t>В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30520" y="1434960"/>
            <a:ext cx="792360" cy="432000"/>
          </a:xfrm>
          <a:custGeom>
            <a:avLst/>
            <a:gdLst>
              <a:gd name="textAreaLeft" fmla="*/ 0 w 792360"/>
              <a:gd name="textAreaRight" fmla="*/ 792720 w 792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64000" y="2548080"/>
            <a:ext cx="792000" cy="431640"/>
          </a:xfrm>
          <a:custGeom>
            <a:avLst/>
            <a:gdLst>
              <a:gd name="textAreaLeft" fmla="*/ 0 w 792000"/>
              <a:gd name="textAreaRight" fmla="*/ 792360 w 792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3860640"/>
            <a:ext cx="792360" cy="432000"/>
          </a:xfrm>
          <a:custGeom>
            <a:avLst/>
            <a:gdLst>
              <a:gd name="textAreaLeft" fmla="*/ 0 w 792360"/>
              <a:gd name="textAreaRight" fmla="*/ 792720 w 792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4724280"/>
            <a:ext cx="792360" cy="432000"/>
          </a:xfrm>
          <a:custGeom>
            <a:avLst/>
            <a:gdLst>
              <a:gd name="textAreaLeft" fmla="*/ 0 w 792360"/>
              <a:gd name="textAreaRight" fmla="*/ 792720 w 792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6070680"/>
            <a:ext cx="792360" cy="431640"/>
          </a:xfrm>
          <a:custGeom>
            <a:avLst/>
            <a:gdLst>
              <a:gd name="textAreaLeft" fmla="*/ 0 w 792360"/>
              <a:gd name="textAreaRight" fmla="*/ 792720 w 792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3800" y="322092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88200" y="314172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8760" y="47520"/>
            <a:ext cx="8734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В1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и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N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зашифровали файлы для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может расшифровывать эти файлы, а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В1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и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N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– н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4000" y="1413000"/>
            <a:ext cx="5832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709720"/>
            <a:ext cx="5832360" cy="2232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1649520"/>
            <a:ext cx="1008000" cy="936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852640"/>
            <a:ext cx="1008000" cy="936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1506600"/>
            <a:ext cx="936720" cy="1079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3213000"/>
            <a:ext cx="936720" cy="1079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1649520"/>
            <a:ext cx="1008000" cy="8650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216360 h 865080"/>
              <a:gd name="textAreaBottom" fmla="*/ 649080 h 86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6720" y="3429000"/>
            <a:ext cx="863640" cy="792000"/>
          </a:xfrm>
          <a:prstGeom prst="rightArrowCallout">
            <a:avLst>
              <a:gd name="adj1" fmla="val 25002"/>
              <a:gd name="adj2" fmla="val 25000"/>
              <a:gd name="adj3" fmla="val 18174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4680" y="179388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0200" y="2997360"/>
            <a:ext cx="7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1268280"/>
            <a:ext cx="1008000" cy="86544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216360 h 865440"/>
              <a:gd name="textAreaBottom" fmla="*/ 649080 h 86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3640" y="2060640"/>
            <a:ext cx="863640" cy="792000"/>
          </a:xfrm>
          <a:prstGeom prst="rightArrowCallout">
            <a:avLst>
              <a:gd name="adj1" fmla="val 25002"/>
              <a:gd name="adj2" fmla="val 25000"/>
              <a:gd name="adj3" fmla="val 18174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5440" y="3357720"/>
            <a:ext cx="3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Verdan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60720" y="1793880"/>
            <a:ext cx="3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Verdan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5013360"/>
            <a:ext cx="5832360" cy="1368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5249880"/>
            <a:ext cx="1008000" cy="936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5080" y="5176800"/>
            <a:ext cx="936720" cy="1079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ock"/>
          <p:cNvSpPr/>
          <p:nvPr/>
        </p:nvSpPr>
        <p:spPr>
          <a:xfrm>
            <a:off x="5148360" y="5681520"/>
            <a:ext cx="457200" cy="6271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5321160"/>
            <a:ext cx="863640" cy="792360"/>
          </a:xfrm>
          <a:prstGeom prst="rightArrowCallout">
            <a:avLst>
              <a:gd name="adj1" fmla="val 25002"/>
              <a:gd name="adj2" fmla="val 25000"/>
              <a:gd name="adj3" fmla="val 18166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4320" y="539280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5080" y="5176800"/>
            <a:ext cx="709560" cy="946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300720" y="4818240"/>
            <a:ext cx="719280" cy="7905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72080" y="4889520"/>
            <a:ext cx="2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Verdan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2880" y="14842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шиф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1600" y="220500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шиф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80640" y="4114800"/>
            <a:ext cx="1861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зашифрованн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66160" y="5032440"/>
            <a:ext cx="11455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3932280"/>
            <a:ext cx="1008000" cy="936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56440" y="407664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72360" y="3759120"/>
            <a:ext cx="792000" cy="941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ock"/>
          <p:cNvSpPr/>
          <p:nvPr/>
        </p:nvSpPr>
        <p:spPr>
          <a:xfrm>
            <a:off x="6737400" y="4197240"/>
            <a:ext cx="387360" cy="5479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5176800"/>
            <a:ext cx="936360" cy="1079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ock"/>
          <p:cNvSpPr/>
          <p:nvPr/>
        </p:nvSpPr>
        <p:spPr>
          <a:xfrm>
            <a:off x="3348000" y="5680080"/>
            <a:ext cx="457200" cy="6271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3284640"/>
            <a:ext cx="936720" cy="1079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ock"/>
          <p:cNvSpPr/>
          <p:nvPr/>
        </p:nvSpPr>
        <p:spPr>
          <a:xfrm>
            <a:off x="3203640" y="3787920"/>
            <a:ext cx="457200" cy="62676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59280" y="1506600"/>
            <a:ext cx="936720" cy="1079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ock"/>
          <p:cNvSpPr/>
          <p:nvPr/>
        </p:nvSpPr>
        <p:spPr>
          <a:xfrm>
            <a:off x="5291280" y="2009880"/>
            <a:ext cx="457200" cy="6271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48240" y="5753160"/>
            <a:ext cx="816120" cy="100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ock"/>
          <p:cNvSpPr/>
          <p:nvPr/>
        </p:nvSpPr>
        <p:spPr>
          <a:xfrm>
            <a:off x="6851520" y="6227640"/>
            <a:ext cx="398520" cy="58608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348240" y="5730840"/>
            <a:ext cx="673200" cy="897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311960" y="5824440"/>
            <a:ext cx="17352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айл, которы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е удалось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асшифрова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1280" y="1793880"/>
            <a:ext cx="792000" cy="431640"/>
          </a:xfrm>
          <a:custGeom>
            <a:avLst/>
            <a:gdLst>
              <a:gd name="textAreaLeft" fmla="*/ 0 w 792000"/>
              <a:gd name="textAreaRight" fmla="*/ 792360 w 792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3573360"/>
            <a:ext cx="792000" cy="432000"/>
          </a:xfrm>
          <a:custGeom>
            <a:avLst/>
            <a:gdLst>
              <a:gd name="textAreaLeft" fmla="*/ 0 w 792000"/>
              <a:gd name="textAreaRight" fmla="*/ 792360 w 792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5464080"/>
            <a:ext cx="792000" cy="432000"/>
          </a:xfrm>
          <a:custGeom>
            <a:avLst/>
            <a:gdLst>
              <a:gd name="textAreaLeft" fmla="*/ 0 w 792000"/>
              <a:gd name="textAreaRight" fmla="*/ 792360 w 792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72360" y="3068640"/>
            <a:ext cx="792000" cy="431640"/>
          </a:xfrm>
          <a:custGeom>
            <a:avLst/>
            <a:gdLst>
              <a:gd name="textAreaLeft" fmla="*/ 0 w 792000"/>
              <a:gd name="textAreaRight" fmla="*/ 792360 w 792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5800" y="306864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8760" y="47520"/>
            <a:ext cx="87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зашифровал фай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1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могут расшифровывать этот фай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а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С 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– н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900000" y="3571920"/>
            <a:ext cx="1008000" cy="936360"/>
            <a:chOff x="900000" y="3571920"/>
            <a:chExt cx="1008000" cy="936360"/>
          </a:xfrm>
        </p:grpSpPr>
        <p:sp>
          <p:nvSpPr>
            <p:cNvPr id="204" name=""/>
            <p:cNvSpPr/>
            <p:nvPr/>
          </p:nvSpPr>
          <p:spPr>
            <a:xfrm>
              <a:off x="900000" y="3571920"/>
              <a:ext cx="1008000" cy="9363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9040" y="3716280"/>
              <a:ext cx="49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Verdan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140360" y="2637000"/>
            <a:ext cx="1008000" cy="936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2840" y="2781360"/>
            <a:ext cx="7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В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67280" y="4724280"/>
            <a:ext cx="1008000" cy="936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93640" y="4869000"/>
            <a:ext cx="7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В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378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74880" y="2779560"/>
            <a:ext cx="168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крытый клю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ьзователя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/>
          <p:nvPr/>
        </p:nvCxnSpPr>
        <p:spPr>
          <a:xfrm flipH="1">
            <a:off x="5579640" y="4219200"/>
            <a:ext cx="936000" cy="5400"/>
          </a:xfrm>
          <a:prstGeom prst="straightConnector1">
            <a:avLst/>
          </a:prstGeom>
          <a:ln w="25560">
            <a:solidFill>
              <a:srgbClr val="ff0000"/>
            </a:solidFill>
            <a:prstDash val="sysDot"/>
            <a:miter/>
            <a:head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6592680" y="3645000"/>
            <a:ext cx="18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порт в ШИП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91960" y="407664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кспорт из ШИП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>
            <a:stCxn id="204" idx="3"/>
            <a:endCxn id="216" idx="1"/>
          </p:cNvCxnSpPr>
          <p:nvPr/>
        </p:nvCxnSpPr>
        <p:spPr>
          <a:xfrm flipV="1">
            <a:off x="1907640" y="3971520"/>
            <a:ext cx="1008720" cy="69120"/>
          </a:xfrm>
          <a:prstGeom prst="straightConnector1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 flipV="1">
            <a:off x="3276720" y="3139920"/>
            <a:ext cx="8636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32000" y="3860640"/>
            <a:ext cx="1008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797440" y="2708280"/>
            <a:ext cx="355680" cy="723960"/>
            <a:chOff x="5797440" y="2708280"/>
            <a:chExt cx="355680" cy="72396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5797440" y="2708280"/>
              <a:ext cx="35568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807160" y="277992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917800" y="3716280"/>
            <a:ext cx="355680" cy="723960"/>
            <a:chOff x="2917800" y="3716280"/>
            <a:chExt cx="355680" cy="723960"/>
          </a:xfrm>
        </p:grpSpPr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2917800" y="3716280"/>
              <a:ext cx="35568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927520" y="378792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35320" y="189000"/>
            <a:ext cx="77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Пользователь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кспортирует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открытый клю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в формате </a:t>
            </a:r>
            <a:r>
              <a:rPr b="1" lang="en-US" sz="2400" spc="-1" strike="noStrike">
                <a:solidFill>
                  <a:srgbClr val="990033"/>
                </a:solidFill>
                <a:latin typeface="Verdana"/>
              </a:rPr>
              <a:t>Privacy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, а пользователи группы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В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мпортируют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его в свои ШИП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539640" y="1844640"/>
            <a:ext cx="1008000" cy="936360"/>
            <a:chOff x="539640" y="1844640"/>
            <a:chExt cx="1008000" cy="936360"/>
          </a:xfrm>
        </p:grpSpPr>
        <p:sp>
          <p:nvSpPr>
            <p:cNvPr id="226" name=""/>
            <p:cNvSpPr/>
            <p:nvPr/>
          </p:nvSpPr>
          <p:spPr>
            <a:xfrm>
              <a:off x="539640" y="1844640"/>
              <a:ext cx="1008000" cy="9363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8680" y="1989000"/>
              <a:ext cx="49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Verdan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411280" y="1844640"/>
            <a:ext cx="1008360" cy="936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44120" y="1989000"/>
            <a:ext cx="7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В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2924280"/>
            <a:ext cx="1008000" cy="936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60200" y="3068640"/>
            <a:ext cx="7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В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4581360"/>
            <a:ext cx="2737080" cy="18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73680" y="602136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6320" y="3519360"/>
            <a:ext cx="179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крытый клю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6720" y="4457880"/>
            <a:ext cx="863640" cy="0"/>
          </a:xfrm>
          <a:prstGeom prst="line">
            <a:avLst/>
          </a:prstGeom>
          <a:ln w="38160">
            <a:solidFill>
              <a:srgbClr val="3366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62120" y="4241880"/>
            <a:ext cx="221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мещение файл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серв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08280" y="5033880"/>
            <a:ext cx="243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айл, зашифрова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помощью открыт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люча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0" idx="2"/>
            <a:endCxn id="239" idx="0"/>
          </p:cNvCxnSpPr>
          <p:nvPr/>
        </p:nvCxnSpPr>
        <p:spPr>
          <a:xfrm flipH="1">
            <a:off x="2592000" y="3860280"/>
            <a:ext cx="1548720" cy="864360"/>
          </a:xfrm>
          <a:prstGeom prst="straightConnector1">
            <a:avLst/>
          </a:prstGeom>
          <a:ln w="38160">
            <a:solidFill>
              <a:srgbClr val="3366ff"/>
            </a:solidFill>
            <a:prstDash val="dashDot"/>
            <a:miter/>
            <a:tailEnd len="med" type="triangle" w="med"/>
          </a:ln>
        </p:spPr>
      </p:cxnSp>
      <p:cxnSp>
        <p:nvCxnSpPr>
          <p:cNvPr id="240" name=""/>
          <p:cNvCxnSpPr>
            <a:stCxn id="228" idx="2"/>
            <a:endCxn id="241" idx="0"/>
          </p:cNvCxnSpPr>
          <p:nvPr/>
        </p:nvCxnSpPr>
        <p:spPr>
          <a:xfrm flipH="1">
            <a:off x="1368000" y="2781000"/>
            <a:ext cx="1548720" cy="1943640"/>
          </a:xfrm>
          <a:prstGeom prst="straightConnector1">
            <a:avLst/>
          </a:prstGeom>
          <a:ln w="38160">
            <a:solidFill>
              <a:srgbClr val="3366ff"/>
            </a:solidFill>
            <a:prstDash val="dashDot"/>
            <a:miter/>
            <a:tailEnd len="med" type="triangle" w="med"/>
          </a:ln>
        </p:spPr>
      </p:cxnSp>
      <p:grpSp>
        <p:nvGrpSpPr>
          <p:cNvPr id="242" name=""/>
          <p:cNvGrpSpPr/>
          <p:nvPr/>
        </p:nvGrpSpPr>
        <p:grpSpPr>
          <a:xfrm>
            <a:off x="5510160" y="3352680"/>
            <a:ext cx="355680" cy="723960"/>
            <a:chOff x="5510160" y="3352680"/>
            <a:chExt cx="355680" cy="72396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5510160" y="3352680"/>
              <a:ext cx="35568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519880" y="342432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148360" y="4962600"/>
            <a:ext cx="936360" cy="1130400"/>
            <a:chOff x="5148360" y="4962600"/>
            <a:chExt cx="936360" cy="1130400"/>
          </a:xfrm>
        </p:grpSpPr>
        <p:sp>
          <p:nvSpPr>
            <p:cNvPr id="246" name=""/>
            <p:cNvSpPr/>
            <p:nvPr/>
          </p:nvSpPr>
          <p:spPr>
            <a:xfrm>
              <a:off x="5148360" y="4962600"/>
              <a:ext cx="936360" cy="1079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ock"/>
            <p:cNvSpPr/>
            <p:nvPr/>
          </p:nvSpPr>
          <p:spPr>
            <a:xfrm>
              <a:off x="5580000" y="5465880"/>
              <a:ext cx="457200" cy="62712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221080" y="5030640"/>
              <a:ext cx="355680" cy="723960"/>
              <a:chOff x="5221080" y="5030640"/>
              <a:chExt cx="355680" cy="723960"/>
            </a:xfrm>
          </p:grpSpPr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21080" y="5030640"/>
                <a:ext cx="355680" cy="72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5230800" y="510228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2124000" y="4724280"/>
            <a:ext cx="936360" cy="1130400"/>
            <a:chOff x="2124000" y="4724280"/>
            <a:chExt cx="936360" cy="1130400"/>
          </a:xfrm>
        </p:grpSpPr>
        <p:sp>
          <p:nvSpPr>
            <p:cNvPr id="239" name=""/>
            <p:cNvSpPr/>
            <p:nvPr/>
          </p:nvSpPr>
          <p:spPr>
            <a:xfrm>
              <a:off x="2124000" y="4724280"/>
              <a:ext cx="936360" cy="1079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ock"/>
            <p:cNvSpPr/>
            <p:nvPr/>
          </p:nvSpPr>
          <p:spPr>
            <a:xfrm>
              <a:off x="2555640" y="5227560"/>
              <a:ext cx="457200" cy="62712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2196720" y="4792320"/>
              <a:ext cx="355680" cy="723960"/>
              <a:chOff x="2196720" y="4792320"/>
              <a:chExt cx="355680" cy="723960"/>
            </a:xfrm>
          </p:grpSpPr>
          <p:pic>
            <p:nvPicPr>
              <p:cNvPr id="2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196720" y="4792320"/>
                <a:ext cx="355680" cy="72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2206440" y="486396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"/>
          <p:cNvGrpSpPr/>
          <p:nvPr/>
        </p:nvGrpSpPr>
        <p:grpSpPr>
          <a:xfrm>
            <a:off x="900000" y="4724280"/>
            <a:ext cx="936360" cy="1130400"/>
            <a:chOff x="900000" y="4724280"/>
            <a:chExt cx="936360" cy="1130400"/>
          </a:xfrm>
        </p:grpSpPr>
        <p:sp>
          <p:nvSpPr>
            <p:cNvPr id="241" name=""/>
            <p:cNvSpPr/>
            <p:nvPr/>
          </p:nvSpPr>
          <p:spPr>
            <a:xfrm>
              <a:off x="900000" y="4724280"/>
              <a:ext cx="936360" cy="1079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ock"/>
            <p:cNvSpPr/>
            <p:nvPr/>
          </p:nvSpPr>
          <p:spPr>
            <a:xfrm>
              <a:off x="1331640" y="5227560"/>
              <a:ext cx="457200" cy="62712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972720" y="4792320"/>
              <a:ext cx="355680" cy="723960"/>
              <a:chOff x="972720" y="4792320"/>
              <a:chExt cx="355680" cy="723960"/>
            </a:xfrm>
          </p:grpSpPr>
          <p:pic>
            <p:nvPicPr>
              <p:cNvPr id="2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72720" y="4792320"/>
                <a:ext cx="355680" cy="72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982440" y="486396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"/>
          <p:cNvSpPr/>
          <p:nvPr/>
        </p:nvSpPr>
        <p:spPr>
          <a:xfrm>
            <a:off x="671040" y="55440"/>
            <a:ext cx="692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</a:rPr>
              <a:t>Пользователи группы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990033"/>
                </a:solidFill>
                <a:latin typeface="Verdana"/>
              </a:rPr>
              <a:t> кладут на серв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</a:rPr>
              <a:t>файлы, зашифрованные с помощ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</a:rPr>
              <a:t>открытого ключа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06:28:52Z</dcterms:created>
  <dc:creator>User</dc:creator>
  <dc:description/>
  <dc:language>en-US</dc:language>
  <cp:lastModifiedBy>Конявский</cp:lastModifiedBy>
  <dcterms:modified xsi:type="dcterms:W3CDTF">2010-05-29T13:49:01Z</dcterms:modified>
  <cp:revision>14</cp:revision>
  <dc:subject/>
  <dc:title>Слайд 1</dc:title>
</cp:coreProperties>
</file>